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6299-4CED-4C85-82CB-596AEF2E0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70296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021D-25C5-4CBF-8E72-0DF1716D7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8103-663F-48D6-AF64-300962A1B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1FAB-1B72-4DB1-AF5F-C62C8C319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7D6-87D9-4901-9A37-B7EB530EC7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729-04BF-4764-8813-095A131444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9B0-D551-4718-9632-11ADD0177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E4B-BB56-4F52-8596-5B6D7992E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6D1-769A-4707-80E7-7CA762D7C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5FA-046D-400E-93C3-4C61224246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3B9-7D7C-44CD-AC1A-B7740BBA1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7036-F1B8-4ABF-897B-35CE8C51A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888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B9C-80A3-480A-A9ED-204B675413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984-0B36-48E5-AC55-3E5ADE7630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600" y="370296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F12-E1D8-4215-BB46-C07E0BD0BA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888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9B7-EB69-41A2-8C6D-CC0029D4C5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14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4200" y="175248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6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14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4200" y="3702960"/>
            <a:ext cx="2821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EF4-0CE8-4054-AB76-DBA71F350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1F85-58E2-4637-AA2D-5B261B064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04D6-CC87-4FCB-BA0F-CEB60610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A33C-02E9-41A6-AF96-1A94B223A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1B8F-1A75-433F-B13E-174D70153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07FD-CC75-4462-9D89-E8EEA1CA5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70296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53F4-2CC4-4F34-BA0E-12CAFB3D3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752480"/>
            <a:ext cx="4276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702960"/>
            <a:ext cx="8763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309B-9701-4586-87C5-445B8196E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752480"/>
            <a:ext cx="8839440" cy="373392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dc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5272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90B6-60E8-4E34-8BE2-DB52F283483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839440" cy="5639040"/>
          </a:xfrm>
          <a:prstGeom prst="roundRect">
            <a:avLst>
              <a:gd name="adj" fmla="val 13569"/>
            </a:avLst>
          </a:prstGeom>
          <a:noFill/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47242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Verdana"/>
              </a:rPr>
              <a:t>Informatics and Mathematical Modelling / Intelligent Signal Proces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342800" cy="330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610480" y="6289560"/>
            <a:ext cx="38916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752480"/>
            <a:ext cx="8839440" cy="373392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5dc00"/>
                </a:solidFill>
                <a:latin typeface="Verdana"/>
              </a:rPr>
              <a:t>Click to edit the title text format</a:t>
            </a:r>
            <a:endParaRPr b="0" lang="en-US" sz="46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09480"/>
            <a:ext cx="8839440" cy="5639040"/>
          </a:xfrm>
          <a:prstGeom prst="roundRect">
            <a:avLst>
              <a:gd name="adj" fmla="val 13569"/>
            </a:avLst>
          </a:prstGeom>
          <a:noFill/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7242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Verdana"/>
              </a:rPr>
              <a:t>Informatik og Matematisk Modellering / Intelligent Signalbehand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3"/>
          </p:nvPr>
        </p:nvSpPr>
        <p:spPr>
          <a:xfrm>
            <a:off x="152280" y="655272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A62F-DD12-4DCD-BAEC-6C15F682AA8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342800" cy="330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610480" y="6289560"/>
            <a:ext cx="389160" cy="568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2901.mov" TargetMode="External"/><Relationship Id="rId2" Type="http://schemas.openxmlformats.org/officeDocument/2006/relationships/hyperlink" Target="file:///02901.m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5dc00"/>
                </a:solidFill>
                <a:latin typeface="Verdana"/>
              </a:rPr>
              <a:t>Bayesian Pitch Tracking</a:t>
            </a:r>
            <a:endParaRPr b="0" lang="en-US" sz="46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D Course 02901, 200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els Pontoppid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dc00"/>
                </a:solidFill>
                <a:latin typeface="Verdana"/>
              </a:rPr>
              <a:t>Pitch tracking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ctra metho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ffers from harmonic err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.e. estimated pitch is 2,3 times fundamen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relation metho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ffers from sub-harmonic err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.e. estimated pitch is ½, 1/3 times fundamen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dc00"/>
                </a:solidFill>
                <a:latin typeface="Verdana"/>
              </a:rPr>
              <a:t>Bayesian Pitch estimation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bines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armonics resemble correlation dom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choise of K denoises the correlation to only contain energy up to ”K’th” harm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 coefficients resemble spect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rther null-hypothesis provides “in the loop” testing against no periodic sig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e5dc00"/>
                </a:solidFill>
                <a:latin typeface="Verdana"/>
              </a:rPr>
              <a:t>Bspect.m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73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fter “few” analytic calcul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mply check p(w0,K|y)&gt;p(0|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781680" y="3511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39680" y="3141720"/>
            <a:ext cx="706464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19440" y="2276640"/>
            <a:ext cx="37051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dc00"/>
                </a:solidFill>
                <a:latin typeface="Verdana"/>
              </a:rPr>
              <a:t>Two different Bayesian schemes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ith the NIG set of assum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aussian” coeffici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amma” nois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“”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ue to coupling of coefficients and noise level in assump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assum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lat prior on coefficients (imprope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Jeffrey’s 1/</a:t>
            </a:r>
            <a:r>
              <a:rPr b="0" lang="el-GR" sz="2000" spc="-1" strike="noStrike">
                <a:solidFill>
                  <a:srgbClr val="ffffff"/>
                </a:solidFill>
                <a:latin typeface="Verdana"/>
              </a:rPr>
              <a:t>σ</a:t>
            </a:r>
            <a:r>
              <a:rPr b="0" lang="da-DK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 prior on noise level (also imprope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e5dc00"/>
                </a:solidFill>
                <a:latin typeface="Verdana"/>
              </a:rPr>
              <a:t>Equations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1916280"/>
                <a:ext cx="6191280" cy="32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ν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INV</m:t>
                            </m:r>
                          </m:sup>
                        </m:sSup>
                        <m:r>
                          <m:t xml:space="preserve">f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½log</m:t>
                        </m:r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ν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PROP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½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½log</m:t>
                        </m:r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ammal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½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e5dc00"/>
                </a:solidFill>
                <a:latin typeface="Verdana"/>
              </a:rPr>
              <a:t>Equations 2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Almost the same equ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They differ on the additional terms, and sligtly due to the addition of a ”regularizing”  term in Q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NIG version worked, the other did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Found something close to the pit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however always chose maximal number of harmon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d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Possibly indicating different assumptions on scaling of Basis Matrix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Equations could be simplified utlizing orthogonality between basis func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e5dc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Bayesian Pitch estimater (NIG ver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Correlogram Pitch [Slaney’s Auditory Toolbox]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Same example with increasing no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Breaks down at same SNR level, different artefa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Harmon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5d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Null hypothesis w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Verdana"/>
              </a:rPr>
              <a:t>Agrees on p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e5dc00"/>
                </a:solidFill>
                <a:latin typeface="Verdana"/>
              </a:rPr>
              <a:t>Movie and sound examples</a:t>
            </a:r>
            <a:endParaRPr b="0" lang="en-US" sz="3000" spc="-1" strike="noStrike">
              <a:solidFill>
                <a:srgbClr val="e5dc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d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bfbfbf"/>
                </a:solidFill>
                <a:uFillTx/>
                <a:latin typeface="Verdana"/>
                <a:hlinkClick r:id="rId1"/>
              </a:rPr>
              <a:t>Sound </a:t>
            </a:r>
            <a:r>
              <a:rPr b="0" lang="da-DK" sz="2400" spc="-1" strike="noStrike" u="sng">
                <a:solidFill>
                  <a:srgbClr val="bfbfbf"/>
                </a:solidFill>
                <a:uFillTx/>
                <a:latin typeface="Verdana"/>
                <a:hlinkClick r:id="rId2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8:44:47Z</dcterms:created>
  <dc:creator>Niels Henrik Pontoppidan</dc:creator>
  <dc:description/>
  <dc:language>en-US</dc:language>
  <cp:lastModifiedBy>Niels Henrik Pontoppidan</cp:lastModifiedBy>
  <dcterms:modified xsi:type="dcterms:W3CDTF">2004-10-08T10:48:29Z</dcterms:modified>
  <cp:revision>5</cp:revision>
  <dc:subject/>
  <dc:title>Bayesian Pitch Tracking</dc:title>
</cp:coreProperties>
</file>